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488-FB86-4BC3-889E-DFC5C087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05F-A463-4D84-ABA4-5167CBC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309-C5E5-4F37-8922-AE243978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1DF-BD3A-4A26-A6B2-23F90CAB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E996-0B7F-40B8-8779-1A96A15E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61E-8EB1-476A-BC75-7689E33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C19-5037-4B9D-8F64-671AC25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6A0F-67E8-4D19-AD19-ECB74A5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F823-3B69-47FA-B6F6-EC49149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4B1-287F-4A47-83E2-E8C592B6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DA6-D24A-4EFD-87E5-7577A89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958-C459-44A4-993E-859224C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5B8-EA7E-409B-8504-93D93BD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2ED5-6699-4A9D-8A74-A36055F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C6F0-DBD6-43CB-841F-729EA17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32D-5555-40FD-A5FE-EEF2474A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DC0D-8684-451D-87A2-8A7D14B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06D-1B4F-4C2C-BCD2-2D92F24B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42D-51D4-41DA-A7B7-AB6276DE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41A-20E2-4F02-A51F-609072D0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9CB-1D26-4972-BD0E-651D17F6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2D6-4751-4CC8-90BD-C94E2F4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D52-3DF6-46DD-BAAB-3A841B5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F3C-E817-4B09-9700-80F6977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2B6-D63B-4661-A4B1-AC7737246576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446-5F54-45F6-BD4E-7B277E569DD6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973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2080"/>
            <a:ext cx="8496000" cy="6335640"/>
          </a:xfrm>
          <a:custGeom>
            <a:avLst/>
            <a:gdLst>
              <a:gd name="textAreaLeft" fmla="*/ 1996560 w 8496000"/>
              <a:gd name="textAreaRight" fmla="*/ 6493320 w 8496000"/>
              <a:gd name="textAreaTop" fmla="*/ 744840 h 6335640"/>
              <a:gd name="textAreaBottom" fmla="*/ 3974040 h 633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119240"/>
            <a:ext cx="66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000000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12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1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0560" y="84312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لوين مكفّي وحدك بهالدرب                                 ضايع عم تسأل عن درب الحب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371628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تعا تنمشي سوا صوب الرب                               بحب وثقة ملوى القل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r>
              <a:rPr b="1" lang="ar-SA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                  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تسلّم حالك ليسوع                                سلّمو قلبك بلا رجوع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ع حالك بين ايديه                                قلبو أحنّ من قلب البي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يهم كم باب دقّيت                                       ولا كم حلم تمنيت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انت بقلبو حلم قديم                                          يدلّك ع دروب الحياة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2:43Z</dcterms:created>
  <dc:creator>Kalisse</dc:creator>
  <dc:description/>
  <dc:language>en-US</dc:language>
  <cp:lastModifiedBy>user</cp:lastModifiedBy>
  <dcterms:modified xsi:type="dcterms:W3CDTF">2006-05-05T05:42:44Z</dcterms:modified>
  <cp:revision>52</cp:revision>
  <dc:subject/>
  <dc:title>Slide 1</dc:title>
</cp:coreProperties>
</file>